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EBA-F3B9-42DF-BED6-EE73528F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7179-8E56-4997-9DBF-2C83D7B8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DD29-B4E0-40B4-A787-F938E3E3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783-1891-4191-B084-3757EB0F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EC0F-A84E-48CF-BA7D-E689E2B3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1C8F-5751-4AD6-A433-AE82BD3C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A890-1AD7-4482-BF9B-5050DEF9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740A-7A75-43C5-8DFC-1F6923DF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0E9D-7133-4149-B508-BBB8ABF0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EE5-3A5C-41F1-937E-7DCC54E5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8692-7419-49F7-9045-A55DC891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8200-63C1-41A4-AA0D-9FAD6B45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C9CD-D4CB-42D3-8555-2AF3FCA5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0033-7EB0-4C65-942A-454830E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1D75-6DD4-4078-B7B4-36194FCE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0918-C652-4BAF-B470-F81438EC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0B94-C49E-4754-A4A2-C15849D26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EFA5-56EB-4B98-95B4-BA9CC7F3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D961-58C7-40EF-9B23-68353E78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4F7-5171-4869-B518-31DFEB9D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C4B-FF87-4987-AC9F-AA6D697C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83B7-9030-4A1D-948A-1AE88CED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EED4-CD13-4532-957E-8A99A043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B7DA-20D3-43F5-BFA6-6E45EF6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B727-AD38-45BA-AE7B-84F2E1DB15B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42CE-F37B-4052-90F4-BD5B9205EE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09680" y="1066680"/>
            <a:ext cx="579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Vowel stem-changing verbs.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429000" y="3657600"/>
            <a:ext cx="2133720" cy="26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2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2666880"/>
            <a:ext cx="5334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 madre 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n el centro comercia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65760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2666880"/>
            <a:ext cx="693396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Antonio en la bibliotec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592360"/>
            <a:ext cx="3809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2286000"/>
            <a:ext cx="5715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stoy emocion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Voy a __________ a mis abuelos que vienen a visitarnos en el aeropuer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038480" y="3200400"/>
            <a:ext cx="2819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28600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Dónde está mi libro?  No l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3962520"/>
            <a:ext cx="297180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666880"/>
            <a:ext cx="5334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stedes 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 buen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259236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cine ho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que es una excelent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de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2362320"/>
            <a:ext cx="31240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chicos  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ir al gimnasio para jug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l baloncest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i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pens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0" y="2666880"/>
            <a:ext cx="64771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is amigos y yo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 ir al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rcado.  ¿Quier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compañarno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1244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sa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calculad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9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266688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 en mi cam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23623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427560" y="23572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 impresora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2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as computadoras allí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1200 dólares cada una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2666880"/>
            <a:ext cx="6477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el libro de español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35 dólare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cost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0" y="2666880"/>
            <a:ext cx="64771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¿Cuánto 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lapices?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 a eso de 1 dólar, cre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362320"/>
            <a:ext cx="2438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90920" y="4648320"/>
            <a:ext cx="281916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971800" y="281952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fi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Nosotro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ocho horas cada noch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581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ormimo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2666880"/>
            <a:ext cx="59436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Los estudiantes nunc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en la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lase de español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358164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0" y="2666880"/>
            <a:ext cx="53341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ás tarde los sábado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362320"/>
            <a:ext cx="35812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438280"/>
            <a:ext cx="67057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anuel siempre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cuando está cansad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e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dormi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438280"/>
            <a:ext cx="670572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Me gusta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_____________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rato por la tarde si es posibl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3429000"/>
            <a:ext cx="32767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o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mi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2666880"/>
            <a:ext cx="533412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Yo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a mis amigos en el restaurante mexican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a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o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27560" y="2440080"/>
            <a:ext cx="326052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09680" y="10666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encontrar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2666880"/>
            <a:ext cx="5334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Tú _____________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n lápiz en el suelo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29000" y="2438280"/>
            <a:ext cx="3260880" cy="825120"/>
          </a:xfrm>
          <a:prstGeom prst="rect">
            <a:avLst/>
          </a:prstGeom>
          <a:solidFill>
            <a:srgbClr val="fcfdc6"/>
          </a:solidFill>
          <a:ln w="12600">
            <a:solidFill>
              <a:srgbClr val="ffffcc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nc</a:t>
            </a:r>
            <a:r>
              <a:rPr b="0" lang="en-US" sz="4800" spc="-1" strike="noStrike">
                <a:solidFill>
                  <a:srgbClr val="990000"/>
                </a:solidFill>
                <a:latin typeface="Arial"/>
              </a:rPr>
              <a:t>ue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ntr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2T10:49:29Z</dcterms:created>
  <dc:creator>Paul Widergren</dc:creator>
  <dc:description/>
  <dc:language>en-US</dc:language>
  <cp:lastModifiedBy>nfannoney</cp:lastModifiedBy>
  <dcterms:modified xsi:type="dcterms:W3CDTF">2009-02-02T18:16:34Z</dcterms:modified>
  <cp:revision>3</cp:revision>
  <dc:subject/>
  <dc:title>No Slide Title</dc:title>
</cp:coreProperties>
</file>